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965A-5F53-430C-B1BE-E4B648D8C6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9CE-6DFE-4867-A1E6-571453CA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CE3-97AD-4CCB-BC04-92A62B17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A28E-E3C2-4A4E-A54F-80D395FF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C58-58A4-437B-8338-4AA4450F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0296-C80B-4C6E-A5A0-3822ED8C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54DD-8487-4404-A7B5-04B1B308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36C8-1FD4-49E3-9FB6-F9AEBF27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5F8D-E662-4BB0-A53D-A5D63D56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0366-F8C8-4CA0-A957-B0B8169C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5750-7C42-4773-A70D-F8884BCC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A239-8C1D-4B51-A3E4-CF1A584A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E6E8-237F-4283-97A5-1EFF0CA4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3762-2C1D-4201-B3BF-52D13E54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AF70-E3C3-43C7-8B3E-3F00F6BB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700F-D43E-4322-9B72-E1CB38AD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C096-7608-4113-87E5-E19ED739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2486-3408-4C78-B539-C7F3D04F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19E-AB61-4C79-B39F-8E87B7A5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9C83-7CBB-4AF6-B09A-A5B2F27B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4C9-5915-4321-ACC2-DF7B5898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C0C-81D8-449F-86C6-189600DD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F17-982B-47BA-9EBE-5D5513FB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F8E-0A2F-454A-AB09-DA037440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E66-5187-4390-864F-E0F85185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F27D-7E49-4A8F-9D19-C6C07AA6A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BD3A-8210-4897-80D9-826EAA370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Start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Uses of plastics - Statis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6" descr="Uses of plastic as percentage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Types of Plasti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7720" y="1904760"/>
          <a:ext cx="8007480" cy="4190760"/>
        </p:xfrm>
        <a:graphic>
          <a:graphicData uri="http://schemas.openxmlformats.org/drawingml/2006/table"/>
        </a:graphic>
      </p:graphicFrame>
      <p:pic>
        <p:nvPicPr>
          <p:cNvPr id="111" name="Picture 12" descr="Recycling Logo"/>
          <p:cNvPicPr/>
          <p:nvPr/>
        </p:nvPicPr>
        <p:blipFill>
          <a:blip r:embed="rId1"/>
          <a:stretch/>
        </p:blipFill>
        <p:spPr>
          <a:xfrm>
            <a:off x="-571680" y="1260360"/>
            <a:ext cx="3337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Recycling Logo"/>
          <p:cNvPicPr/>
          <p:nvPr/>
        </p:nvPicPr>
        <p:blipFill>
          <a:blip r:embed="rId2"/>
          <a:stretch/>
        </p:blipFill>
        <p:spPr>
          <a:xfrm>
            <a:off x="-571680" y="1222200"/>
            <a:ext cx="343080" cy="31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Recycling Logo"/>
          <p:cNvPicPr/>
          <p:nvPr/>
        </p:nvPicPr>
        <p:blipFill>
          <a:blip r:embed="rId3"/>
          <a:stretch/>
        </p:blipFill>
        <p:spPr>
          <a:xfrm>
            <a:off x="-571680" y="11732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Recycling Logo"/>
          <p:cNvPicPr/>
          <p:nvPr/>
        </p:nvPicPr>
        <p:blipFill>
          <a:blip r:embed="rId4"/>
          <a:stretch/>
        </p:blipFill>
        <p:spPr>
          <a:xfrm>
            <a:off x="-571680" y="106668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Recycling Logo"/>
          <p:cNvPicPr/>
          <p:nvPr/>
        </p:nvPicPr>
        <p:blipFill>
          <a:blip r:embed="rId5"/>
          <a:stretch/>
        </p:blipFill>
        <p:spPr>
          <a:xfrm>
            <a:off x="-571680" y="1019160"/>
            <a:ext cx="33372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ecycling Logo"/>
          <p:cNvPicPr/>
          <p:nvPr/>
        </p:nvPicPr>
        <p:blipFill>
          <a:blip r:embed="rId6"/>
          <a:stretch/>
        </p:blipFill>
        <p:spPr>
          <a:xfrm>
            <a:off x="-571680" y="9698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Recycling Logo"/>
          <p:cNvPicPr/>
          <p:nvPr/>
        </p:nvPicPr>
        <p:blipFill>
          <a:blip r:embed="rId7"/>
          <a:stretch/>
        </p:blipFill>
        <p:spPr>
          <a:xfrm>
            <a:off x="-571680" y="952560"/>
            <a:ext cx="343080" cy="314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3"/>
          <p:cNvSpPr/>
          <p:nvPr/>
        </p:nvSpPr>
        <p:spPr>
          <a:xfrm>
            <a:off x="57168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979640" y="1700280"/>
          <a:ext cx="5133960" cy="4906800"/>
        </p:xfrm>
        <a:graphic>
          <a:graphicData uri="http://schemas.openxmlformats.org/drawingml/2006/table">
            <a:tbl>
              <a:tblPr/>
              <a:tblGrid>
                <a:gridCol w="615960"/>
                <a:gridCol w="860400"/>
                <a:gridCol w="365760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ethylene terephthalat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izzy drink bottles and oven-ready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High-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Bottles for milk and washing-up liquid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V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vinyl chlorid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ood trays, cling film, bottles for squash, mineral water and shampo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ow 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Carrier bags and bin line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prop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Margarine tubs, microwaveable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styr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Yoghurt pots, foam meat or fish trays, hamburger boxes and egg cartons, vending cups, plastic cutlery, protective packaging for electronic goods and to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y other plastic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at do not fall into any of the above categories. - An example is melamine, which is often used in plastic plates and cup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ercentage that can be recycl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y recycle plastic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emissions of carbon-dioxide (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nitrogen-oxide (NO) and sulphur-dioxide (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How are polymers recycle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M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at can we do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20:09:29Z</dcterms:created>
  <dc:creator>EP School</dc:creator>
  <dc:description>Starter plastic recycling</dc:description>
  <cp:keywords>Starter plastic recycling</cp:keywords>
  <dc:language>en-US</dc:language>
  <cp:lastModifiedBy>RomaK</cp:lastModifiedBy>
  <dcterms:modified xsi:type="dcterms:W3CDTF">2015-09-02T06:00:44Z</dcterms:modified>
  <cp:revision>14</cp:revision>
  <dc:subject>Starter plastic recycling</dc:subject>
  <dc:title>Starter plastic recycling</dc:title>
</cp:coreProperties>
</file>